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AC3-178D-484C-BB14-4D516694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710-63B9-4306-975D-28CFA093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825-CFAE-446C-B58D-5E2FED5D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57B-6604-4055-9B55-95562479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E01-2FA1-4111-94F4-3AEBD3C7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428-D265-402C-9AD5-818EB1DB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75A-7D37-4CC4-8A86-7BB26542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95D-E8AD-41DF-9CD6-08BDE320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F4E-F779-49DB-A73E-55D1C26B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803-6316-46A3-947B-CE0BF4A7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1CA-1249-43DC-A7B0-F0817758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B029-25A4-42EB-9135-1F146712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72FB-C5E9-4A73-9247-E92624F84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14800" y="-76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473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NKLANDS  ASSOC.                              AIRDRIE                                            AIRDRIE                                 AIRDRIE  150TH           AIRDRIE  NEW   CLUB  &amp;  MILLENNIUM         AIRDRIE - CENTRAL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01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IRDRIE - CENTRAL                             BAILLIESTON                                 BAILLIESTON                             BAILLIESTON                        BAILLIESTON  MILLENNIUM                 BAIRDS  SCOTT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77320" y="297180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932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SHILL                            BELLSHILL  &amp;  MOSSEND    BELLSHILL  &amp;  MOSSEND  100TH      B.S.C. (COATDYKE)                        B S C.( COATDYKE )  75TH                             BURN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HEAD                                      BURNHEAD                                    BURNHEAD  50TH                        CALDERBANK                                      CALDERBANK                                CALDERCRA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47926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05240" y="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8880" y="476280"/>
            <a:ext cx="11336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73240" y="404640"/>
            <a:ext cx="1096920" cy="1097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584520" y="2602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024520" y="476280"/>
            <a:ext cx="107928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681960" y="47628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488880" y="2133720"/>
            <a:ext cx="1116000" cy="1055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2144880" y="2276640"/>
            <a:ext cx="950760" cy="950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3584520" y="2205000"/>
            <a:ext cx="11527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6681960" y="2205000"/>
            <a:ext cx="87768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415800" y="3645000"/>
            <a:ext cx="1316160" cy="125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2073240" y="3645000"/>
            <a:ext cx="1189080" cy="128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3440160" y="364500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8193240" y="3789360"/>
            <a:ext cx="124272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560520" y="558972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5097600" y="5589720"/>
            <a:ext cx="1079280" cy="1060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6608880" y="5373720"/>
            <a:ext cx="1371600" cy="1279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4952880" y="3860640"/>
            <a:ext cx="1170000" cy="109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8265960" y="5589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9"/>
          <a:stretch/>
        </p:blipFill>
        <p:spPr>
          <a:xfrm>
            <a:off x="8193240" y="21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0"/>
          <a:stretch/>
        </p:blipFill>
        <p:spPr>
          <a:xfrm>
            <a:off x="8193240" y="476280"/>
            <a:ext cx="10540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1"/>
          <a:stretch/>
        </p:blipFill>
        <p:spPr>
          <a:xfrm>
            <a:off x="6608880" y="3789360"/>
            <a:ext cx="1147680" cy="1133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2"/>
          <a:stretch/>
        </p:blipFill>
        <p:spPr>
          <a:xfrm>
            <a:off x="3728880" y="5516640"/>
            <a:ext cx="1155960" cy="117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3"/>
          <a:stretch/>
        </p:blipFill>
        <p:spPr>
          <a:xfrm>
            <a:off x="2144880" y="5589720"/>
            <a:ext cx="1076040" cy="1057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4"/>
          <a:stretch/>
        </p:blipFill>
        <p:spPr>
          <a:xfrm>
            <a:off x="4952880" y="2133720"/>
            <a:ext cx="12384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08:10:15Z</dcterms:created>
  <dc:creator>JOHN YOUNG</dc:creator>
  <dc:description/>
  <dc:language>en-US</dc:language>
  <cp:lastModifiedBy>JY</cp:lastModifiedBy>
  <cp:lastPrinted>2000-01-13T17:07:12Z</cp:lastPrinted>
  <dcterms:modified xsi:type="dcterms:W3CDTF">2008-05-20T08:03:32Z</dcterms:modified>
  <cp:revision>29</cp:revision>
  <dc:subject/>
  <dc:title>No Slide Title</dc:title>
</cp:coreProperties>
</file>